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774-BE6A-472D-9D65-F4778285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F1A-C553-4AE9-8E7D-0E5E352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6BB-51C9-41CF-9441-20600F2A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3DD-BE6F-4F60-B59C-D9E424CF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E5B-9D7E-4099-B931-F1C71908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9B9-909C-4AFA-BB00-A6C2DA50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D11-BE3D-47DB-A820-EDAEB740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734-96CC-485B-8809-8D4BF888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32F-5D5E-44ED-847E-27A06243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C25-5F2C-4828-B0AB-6C89F27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C3B-E49A-45CC-8F99-8C0E5B1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B9-08EC-4FFD-8849-2D449C8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2133-8A48-4447-AD88-3D5280677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432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360" y="134640"/>
            <a:ext cx="62276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       </a:t>
            </a: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72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анен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във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кръв потъна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тръни на глав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за подсмих Той е стана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а хорската мълв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о друго Му остав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свен срам и позор?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ъй - хулен и без слава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е мил на моя вз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7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03200" y="117360"/>
            <a:ext cx="574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з горест без отрад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ез хулни викове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и, Господи, пострад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за мойте грехове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Ти Си мой Спасител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и мойто място взе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ето ме просите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и Твоите ноз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5476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01640" y="190440"/>
            <a:ext cx="65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 лице от радост сияйно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 крия си чело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във Твойто в кръв обляно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ободено тело.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Тебе да прославя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, верен Теб докрай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з смърт аз да забравя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Боже мой, не 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55:36Z</dcterms:created>
  <dc:creator>TrifonTrifonow</dc:creator>
  <dc:description/>
  <dc:language>en-US</dc:language>
  <cp:lastModifiedBy>TrifonTrifonow</cp:lastModifiedBy>
  <dcterms:modified xsi:type="dcterms:W3CDTF">2005-11-23T19:09:56Z</dcterms:modified>
  <cp:revision>5</cp:revision>
  <dc:subject/>
  <dc:title>Slide 1</dc:title>
</cp:coreProperties>
</file>